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DC9-3A93-4575-89FF-F2191363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959-8067-4D16-AA88-13A8C71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455-270F-4705-B15C-0EDD87E1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D3F-830E-46F2-829D-903D1EF2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5DC-F277-4EB9-91AF-C7BC41C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52A-1A83-4110-8486-6435F408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6C9-C71F-4EB5-8DFF-5B4B3A2F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FA9-639A-4804-BD7F-7CE063C6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5F3-3FEA-40AD-85A7-5D132DC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336-35E5-4CAB-8D47-B8340BA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2E4-3889-4A88-B417-FCA9527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6E7-E354-4EC1-9ED0-06DF9F46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599-DB1A-468E-954A-1E366F1B5DD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8 Prúd času rýchle odnáš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úd času rýchle odnáša tie chví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tvoja láska darovala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pred,Pane kráčať chc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novej sil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tebou vstúpiť raz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, Pane stále viesť nás Duchom Svä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lova tvojho nech n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deťom svojim, láskou čistou spä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mena tvojho šíri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3:59:40Z</dcterms:modified>
  <cp:revision>12</cp:revision>
  <dc:subject/>
  <dc:title>Je veľký náš Pán, on slávy je Kráľ Nech do všetkých strán  spev vrúcnych znie chvál.</dc:title>
</cp:coreProperties>
</file>